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8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10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D2CC-BF4E-4EA1-BCC3-6ECC80030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1495-A596-442A-8B44-9DC3242EA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2F0C-C2AE-4D36-8F88-8BADA2438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AD78-E8E4-4EC3-ADD9-F7CE47518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D94B-165C-4D9D-B875-E5690D424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B06E-D3BB-4803-856F-0D1912CCC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5435-6246-4CC7-A74F-455DC737A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6D60-343B-4526-A57F-DC6898F47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D178-91CD-492C-BDF3-B7A2F8361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4A1C-4596-4856-8004-214B044A0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42B6-3441-41B1-8B09-534ADC592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3F85E-6DFE-46A0-A11F-963AD7BD8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5302-2B70-4C07-B50B-3314AAD6B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6DEE-2ACF-4118-90FD-13A38879E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8AF1-7E64-450A-8806-578CDF160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0900A-E49E-4D7D-8723-380904904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2BF2-9C30-40AE-A157-AAF7A71C7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CE4A-FE03-40AA-ABFF-57047A42C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29E3-48AC-4844-BCDD-0F9D170CD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B963-7A42-41AF-89D8-D24A9B4E8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44D7-BE43-42B0-A758-1EDF2F48B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C3F6-B437-44A2-86C7-03E62515F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792F2-B208-4A39-9E87-A1B27380B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97E14-ED66-43B7-B7BF-38EBC0C404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41BC5-5E1F-4772-BB7A-1716C03A4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D265B-9E82-4F91-84EF-C47B4140D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C99C1-7EB5-45EC-8329-12A07847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BD5A2-BFEF-4FE3-9E37-4FF51DA4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03BF8-E8C6-4632-8765-A7ECD013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8E599F-136D-4431-BC1E-5F4E0962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8B1BF-306D-4EF1-95F3-C46216B2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86AD62-1A53-476E-95E2-F317EBA1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3090F-2786-4D55-9B63-80913554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EDA66-4A74-43FE-B11A-5415DD2366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52B70-A692-4DC2-A71C-F1343261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C7137A-9A1A-4F8E-8130-AC8C876A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894AB-EFDA-4FFE-BFBE-5E56FD96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EBDE4-5F08-4292-9D35-426D1B53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87BE5-2EF0-45D4-9A2C-89E26A57B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032B63-23F8-448B-81DE-0045688045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BE6997-E6E4-4D8B-8670-10D06C31D3F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F3661B-F501-49B0-BF4E-FAD4609431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496AD1-85E6-407E-8940-AB24E99058F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B87F84-8370-4369-B05D-B2BA9776E1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946F6-870A-48BE-AA3D-AEB476E0A1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7A2E44-CF55-4D97-822D-2E0B221425E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068904-734E-4C63-8C8D-6E7F09B7E6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F4212B-51A0-43CC-BD21-2C7192A92B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3C64ED-A9B4-41EF-BDCA-FD8C93AF8C6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7F3E2E-3B08-49FD-A1FB-82B4E8220F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765726-4D0D-40D3-8497-B80688143E1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F74DB3-90BB-4B81-A6F3-686390850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8474D-2C56-4EF2-8787-2BE5A81A1F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8CF51-5924-44FF-A4A0-6E7D28CC43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3EA9B-9D40-4F60-8EB1-208754328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1789C-912C-4F84-A54B-67E7BA1051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B2DFA-1DA6-488D-9BFE-D1805DAF1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49AC0-DAEE-4B7B-BCD1-AF7611E6B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330E-924F-4378-8D93-B152235C1E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1D24-2C7D-477A-9381-88BBE2E307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6"/>
          </p:nvPr>
        </p:nvSpPr>
        <p:spPr>
          <a:xfrm>
            <a:off x="380880" y="6400080"/>
            <a:ext cx="4114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7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8046-6F08-4549-8671-6CC455D0A1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5399-6F4D-47CE-90E7-FDF3A54D69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0968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правил Вестгард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131480"/>
            <a:ext cx="8382240" cy="23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а д-ром Джеймсом О. Вестгардом, основана на принципах статист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бор правил или критериев для принятия решений о том, «в контроле» ли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, если в серии анализов поставлены контроли, по меньшей мере, двух уров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используют только с одним контрол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Picture 9" descr="westgard_lecturing"/>
          <p:cNvPicPr/>
          <p:nvPr/>
        </p:nvPicPr>
        <p:blipFill>
          <a:blip r:embed="rId1"/>
          <a:stretch/>
        </p:blipFill>
        <p:spPr>
          <a:xfrm>
            <a:off x="2743200" y="39625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0"/>
          <p:cNvSpPr/>
          <p:nvPr/>
        </p:nvSpPr>
        <p:spPr>
          <a:xfrm>
            <a:off x="5884920" y="4114800"/>
            <a:ext cx="211608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р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естгар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7A38-06C9-4044-8845-BC0C1F3B03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"/>
          <p:cNvSpPr/>
          <p:nvPr/>
        </p:nvSpPr>
        <p:spPr>
          <a:xfrm>
            <a:off x="1074240" y="468360"/>
            <a:ext cx="5269320" cy="2746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1. Глюкоза: Номер партии а1б2-г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1074960" y="3429000"/>
            <a:ext cx="5267880" cy="2746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2. Глюкоза: Номер партии а2в3-гл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4584600" y="5911920"/>
            <a:ext cx="506880" cy="182880"/>
          </a:xfrm>
          <a:prstGeom prst="rect">
            <a:avLst/>
          </a:prstGeom>
          <a:solidFill>
            <a:srgbClr val="96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Д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6C30-C6A2-4274-A683-C05A6915BE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61600"/>
            <a:ext cx="82296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тветы для занят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838080" y="1704600"/>
            <a:ext cx="7391520" cy="417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н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1, 22, 24, 26, 27, 30, 31, 33, 34, 36-44 –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в контроле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н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н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0C69-A4C0-4854-B406-1B2A06F5D1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93840" y="399960"/>
            <a:ext cx="83692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Названия правил системы Вестгарда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1760" y="1695600"/>
            <a:ext cx="4190760" cy="48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2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4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авило 10</a:t>
            </a:r>
            <a:r>
              <a:rPr b="0" i="1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76920" y="1447560"/>
            <a:ext cx="411480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спользуют для серий исследований, в которых поставлены контроли двух уровн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11" descr="j0082253"/>
          <p:cNvPicPr/>
          <p:nvPr/>
        </p:nvPicPr>
        <p:blipFill>
          <a:blip r:embed="rId1"/>
          <a:stretch/>
        </p:blipFill>
        <p:spPr>
          <a:xfrm>
            <a:off x="5791320" y="3276720"/>
            <a:ext cx="2501640" cy="3047760"/>
          </a:xfrm>
          <a:prstGeom prst="rect">
            <a:avLst/>
          </a:prstGeom>
          <a:ln w="0">
            <a:noFill/>
          </a:ln>
        </p:spPr>
      </p:pic>
      <p:sp>
        <p:nvSpPr>
          <p:cNvPr id="178" name="Straight Connector 2"/>
          <p:cNvSpPr/>
          <p:nvPr/>
        </p:nvSpPr>
        <p:spPr>
          <a:xfrm>
            <a:off x="4302000" y="57150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ED8E-4E1C-47F3-AFCA-510DEB7956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53680"/>
            <a:ext cx="64008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46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АВИЛО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ЕДУПРЕЖДЕНИ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причина для признания серии неприемл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зультат одного из двух контролей попадает вн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азывает на возможные пробле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ющим шагом применить правило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9AEF-624D-460A-A497-F53EFEA8D9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52520"/>
            <a:ext cx="86868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онтроля одного уровня в двух последовательных сериях оказываются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и по одну сторону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а контроля в одной серии оказываются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2SD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льзя выдавать результаты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457200" y="46080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9E6C-AA72-42E5-ABF8-C9126E92AD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е одного контроля меньше, чем «средне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», а значение другого контроля больше, чем «среднее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тервал между двумя результатами превышает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4 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изошла случайная ошибка, серия результатов должна считаться неприемлемо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457200" y="55296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EA38-41C2-460E-A96C-6819D2A57C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7848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данные контролей предшествующих се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К одного уровня в четырех последовательных сериях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1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о одну сторону от среднего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и обоих уровней в последовательных сериях вне интервала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±1SD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по одну сторон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457200" y="53712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90E1-2185-4712-A5CB-4073CF7C93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9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ются данные контролей предшествующих се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начения КК одного уровня в десяти последовательных сериях по одну сторону от среднего и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роли обоих уровней в пяти последовательных сериях по одну сторону от среднег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457200" y="55296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авило Вестгарда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2"/>
          <p:cNvSpPr/>
          <p:nvPr/>
        </p:nvSpPr>
        <p:spPr>
          <a:xfrm>
            <a:off x="5867280" y="912960"/>
            <a:ext cx="228600" cy="0"/>
          </a:xfrm>
          <a:prstGeom prst="line">
            <a:avLst/>
          </a:prstGeom>
          <a:ln w="190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E9DD-8CEA-41D0-AD49-D551315E88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482760"/>
            <a:ext cx="77724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К по правилам Вестгард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12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3" name="TextBox 1"/>
          <p:cNvSpPr/>
          <p:nvPr/>
        </p:nvSpPr>
        <p:spPr>
          <a:xfrm>
            <a:off x="2133720" y="2633760"/>
            <a:ext cx="532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20563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8"/>
          <p:cNvSpPr/>
          <p:nvPr/>
        </p:nvSpPr>
        <p:spPr>
          <a:xfrm>
            <a:off x="36709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9"/>
          <p:cNvSpPr/>
          <p:nvPr/>
        </p:nvSpPr>
        <p:spPr>
          <a:xfrm>
            <a:off x="525672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0"/>
          <p:cNvSpPr/>
          <p:nvPr/>
        </p:nvSpPr>
        <p:spPr>
          <a:xfrm>
            <a:off x="6780600" y="424800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1"/>
          <p:cNvSpPr/>
          <p:nvPr/>
        </p:nvSpPr>
        <p:spPr>
          <a:xfrm>
            <a:off x="7390440" y="3703680"/>
            <a:ext cx="424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2"/>
          <p:cNvSpPr/>
          <p:nvPr/>
        </p:nvSpPr>
        <p:spPr>
          <a:xfrm>
            <a:off x="914400" y="3726000"/>
            <a:ext cx="485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3"/>
          <p:cNvSpPr/>
          <p:nvPr/>
        </p:nvSpPr>
        <p:spPr>
          <a:xfrm>
            <a:off x="838080" y="510552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4"/>
          <p:cNvSpPr/>
          <p:nvPr/>
        </p:nvSpPr>
        <p:spPr>
          <a:xfrm>
            <a:off x="238608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5"/>
          <p:cNvSpPr/>
          <p:nvPr/>
        </p:nvSpPr>
        <p:spPr>
          <a:xfrm>
            <a:off x="397980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6"/>
          <p:cNvSpPr/>
          <p:nvPr/>
        </p:nvSpPr>
        <p:spPr>
          <a:xfrm>
            <a:off x="553392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7"/>
          <p:cNvSpPr/>
          <p:nvPr/>
        </p:nvSpPr>
        <p:spPr>
          <a:xfrm>
            <a:off x="7110360" y="5129280"/>
            <a:ext cx="5619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8"/>
          <p:cNvSpPr/>
          <p:nvPr/>
        </p:nvSpPr>
        <p:spPr>
          <a:xfrm>
            <a:off x="3049560" y="2843280"/>
            <a:ext cx="5027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 КОНТРОЛЕ»                  СЕРИЯ ПРИЕМЛЕ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9"/>
          <p:cNvSpPr/>
          <p:nvPr/>
        </p:nvSpPr>
        <p:spPr>
          <a:xfrm>
            <a:off x="1523880" y="5605560"/>
            <a:ext cx="6782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ВНЕ КОНТРОЛЯ»                              СЕРИЯ НЕПРИЕМЛЕМ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rapezoid 6"/>
          <p:cNvSpPr/>
          <p:nvPr/>
        </p:nvSpPr>
        <p:spPr>
          <a:xfrm>
            <a:off x="647640" y="1332000"/>
            <a:ext cx="1658880" cy="863640"/>
          </a:xfrm>
          <a:prstGeom prst="pie">
            <a:avLst/>
          </a:pr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е контро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а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2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226D-8D9F-460B-AF75-E3867AF0BD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ooter Placeholder 1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2"/>
          <p:cNvSpPr/>
          <p:nvPr/>
        </p:nvSpPr>
        <p:spPr>
          <a:xfrm>
            <a:off x="6629400" y="642924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01028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99"/>
                </a:solidFill>
                <a:latin typeface="Verdana"/>
              </a:rPr>
              <a:t>Практическое занятие</a:t>
            </a: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990720" y="1560600"/>
            <a:ext cx="723888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Применяя правила Вестгарда, проанализируйте ежедневные значения контролей (следующий слайд)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Olga</cp:lastModifiedBy>
  <dcterms:modified xsi:type="dcterms:W3CDTF">2013-05-11T16:01:01Z</dcterms:modified>
  <cp:revision>21</cp:revision>
  <dc:subject/>
  <dc:title>Westgard Multirule System</dc:title>
</cp:coreProperties>
</file>